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AC7-297A-484F-AB31-4F75C5BC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CA4-3E8C-424F-B391-88674F0D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758FD-F8BB-4E33-978E-29748F2C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5320C-BF9D-4D3A-9663-1CB12D27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5C3FC-BC97-44B9-A794-4B8CA1A1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9AFFC-3BE8-4E46-A3A7-8DAD452A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3D193-22B3-438D-9EE8-11143234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8443B-0227-4889-A026-55AB6574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9280D-D455-4EA5-A5E9-5EE585C1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4DC3B-9C7B-4423-9321-BBA6B6D8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F6215-86CD-4A69-B3DF-88224AF6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D0191-D669-4CD7-8D65-52AB1689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100-4BA7-4868-A4D2-786BFC59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8E270-EB5F-4B31-857E-6E445058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1C34B-BDC8-402A-98F2-E03E9DC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CB14E-7A9C-4771-960C-D8900E26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B7938-82C2-474C-A590-0E66A628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5771D-6433-4FBE-A0F4-AAD864B3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E9051-8804-4BEA-AE3F-4FD636CB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E5E04-8360-4F30-83ED-F7A05F18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493D6-1553-4174-B843-312C6FC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910A4-EB59-43A3-B573-72C9824C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3E8E0-ED5D-43D4-9601-3BC39D5E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6EF-A903-48D0-9B31-12F81E7B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2425F-8A4D-417B-8E34-0613B491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F52FC-EB45-46D2-A605-FB9E31E0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F2ACD-AA51-4808-9E08-86D5E0F1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09C39-7646-4624-9E83-F0623723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22B0C-8A87-43E3-A65F-0CA34429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474E4-FC9B-4612-A7E6-E1370748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6AC5A-2BA3-49EA-A8B8-9B9DCD60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29E66-3B31-486C-B9F9-92D5FF4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1205C-A143-44E3-A7BF-52A56EF3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09E05-EEA8-459C-9538-1D0CE43F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8782-293F-4AC7-80D4-1A30FD46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AD6AA-96D8-4C5A-A956-15242749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5C18A-04EC-4D3E-B7D6-F7E7142B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D6437-1784-4C32-8B9C-FD3C684C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7337A-DC21-4761-88AC-B63AAECC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6DD6D-E089-4BDD-B592-72A97E39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39BC2-747F-49DC-9C3B-56C07744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4B7CE-B127-4711-BC60-AAA73D8E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EEA11-5408-4D53-B4C6-20DF84A6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1ACAE-59EC-4FB0-80B3-81BFF600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E44C5-36E8-4E22-A798-524DE197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46C3-D2E4-4F49-B3AC-20E9B10F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06974-7A14-4031-81A6-0BC6005A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58684-2F5C-4D70-B1F3-0E69324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B4D6A-4E67-4BE6-A8C3-50850825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5FDB3-9D14-473E-965A-C4B38A8A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84609-8BF6-46DE-A50C-0D0CAF74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F6E46-75E5-4241-88A6-069FE640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7DDEE-00B6-4227-88A5-9FF1F5C1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A0744-3858-47F5-859B-4E9B269E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DA924-903F-47F8-B533-5C6E32A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9F5A9-1CB8-47E6-A51E-D55603D3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711E-9483-4854-A904-8AC95BEB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5B4B8-CE2A-4474-A970-D149DBF1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93C84-1ECE-4BD5-94E6-A5D46772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E5B93-4EBA-4D0D-8541-B5234726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7BEFB-175D-410F-A0E0-71204E58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AE96C-14D2-447F-9163-FA3841D8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8606E-9D1A-4532-9298-2B2F9F12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8A540-945B-43E2-97AA-CA05B4FD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95913-412C-499A-B2F0-CE108A36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1A162-5E87-410C-8FEB-4F8FA5AB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DDA98-FE69-4524-9C3A-36BAC296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9004-D077-4A66-A76A-07926DEB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BBD2B-27CD-4EEB-8269-0D435511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D0C6D-C9BC-44F1-A758-5C9576A8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6AE87-3DB9-4852-B828-F3A5E243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8C144-87FD-4836-8C12-83949A8D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2CEC4-452F-4928-B0BD-7191380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7CA31-ECC5-4650-BC75-B5F11D31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5194A-8278-446C-9D73-D6826C49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AF913-DA4D-4F9B-A164-584C527B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EE181-C3D2-41BD-92DC-D434B1E8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13C3E-3117-4812-9057-2A8856F5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9494-FF66-46B9-B9CD-9593BE87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CCEC5-3E87-463E-BDA8-14AA17DE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76686-192F-43D3-ABA7-42E9EBB1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DDCA2-F121-404D-8DDD-48A15984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6AEEE-8EA4-44DE-93FA-D30189C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E98DF5-A668-41E0-9CBA-5BDB31D5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9BFF0-84BC-40D0-AE8A-9C152D6B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DA408-D25A-4D53-9A04-6D70C19E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01F1E-A471-4451-9D86-5212A68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0A5A1-7084-4EFE-B72B-0F92121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8AF6A-A14E-4002-B573-1ADB9DB2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0DAB-0314-4D21-AC43-11425CAC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34A89-7B67-4B91-AD21-9D246E30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3ABA8-E778-4ABD-8B39-365C73D2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ADBF0-D2CD-4B36-B5A0-EAC8FF93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01CD4-4EC0-488F-8C37-4F927E3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0C7C9-3BA4-4964-8010-81DE93C1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462DFC-8EBB-4149-9A92-55823215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5E76B-049A-4D25-A338-C4F65E13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4A419-55B6-4F71-AA7C-A6731DCB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DFCF3-420C-40E8-A5C8-8883A4D2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9A526-B3A2-4893-9560-E862A71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5639-F374-41DD-B121-26AF963A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5A391A-8EB9-497E-99F7-A89A86AA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6447B-2ABD-4617-A8B3-6A87C694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9AF7AA-5F73-459D-99EA-6C01BF36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B8DC01-5416-48DF-9A10-6DC35252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91A78-8E27-405E-9FC6-7EF09EFD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28EB4-A994-4C71-A8CC-0865F85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49C7A-2CB6-4BB0-BB63-89232C55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CDBC3A-9B64-49E1-B30F-0025CDCD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6FD5C-3846-43DC-8D7E-BE418356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E9BC8-E73D-457D-8C3E-A621D0D8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ED7-554F-4B9E-A26B-2E2D98D4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64C8-8933-4002-94EA-BACB3EA8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3C748-7674-4169-9F29-58950EC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3649F-2F87-465E-96A4-A3478FFA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008F2-4DAC-42F2-86CB-F165F3E7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B9559-AFBE-4411-A9C8-CD701B8D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30464-DC00-41E9-A055-15495FAD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F4BDA-D91C-4A80-AC74-33A7EDC2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5CECF-ADA7-4B82-A26B-110AAF8E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26DF4-6645-4BF9-A89B-9196600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5D99C-DDFC-47C1-B51C-A5D02896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B3D85-ACE2-48D7-9508-2F79AD65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78CE-ED10-4892-AC4F-86DAA521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6872B-B157-4FE0-8D5D-714417D7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990481-3647-4D98-BFC8-9102637E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39643-24B7-45AE-AF80-739738CD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CBC5D-8568-4C7D-8B5F-F1A39065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3BC1D-3D45-44EC-8652-DF31C9A6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C38D8-DFF9-431C-9E50-1AE07441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6E2AB-2F6B-428E-9EEC-3FCB4CA4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37344-F04D-4009-AFA5-1C5C1F4C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A26761-DE4F-42B2-A848-E60505A2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E11F1-5571-4EA8-B8A1-AACA6F32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0C46-ED08-4410-A12A-5DB90E36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1F552-152F-46E3-842F-172B0C76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8EBB1-76D4-4B47-985E-AE15FA8F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2F4F7B-AB22-4000-8895-F9C475C2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C29A4-67E6-48EC-9B7D-8425E24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D6B8C-286A-4380-9909-BAC2C5FA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685A0E-6BED-4F21-90C9-99994CA0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7F77F-073C-475B-9ACA-F1589EE6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7605BC-19AC-4731-89BE-04B21449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CB471-C764-4AD6-81B0-6210257C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14FF6-76C1-45C9-9032-5F1ABDCC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693C-3EAE-4C44-B892-CCCBD6E7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7D0CE-0244-488B-A07B-A326EF98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F72CA-7611-4032-AA79-B2EF2C6E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BB2AB-A0AB-4730-924B-1E3652C1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2BBDF-D554-4DB0-8BA7-67BD462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3308B-F75C-4A30-A98A-2055142B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5FED2-A059-4EAB-8214-C9BCED8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C89F8-292E-42C6-B8FF-76C5140E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DA9DE-36A9-4F07-B855-BDDDAC2F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8B035-F03C-43F3-9ED3-9BDCA58B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82BA3-97FB-4907-8EF2-F4055555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C901-142C-4614-8B37-A6955A3E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3F26F-A9E0-4642-AB9C-2F5F6F1D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9C910-E3DC-4069-A483-A71A2C88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4DFF8B-417B-44AA-9F9D-FC5EF5F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156651-978F-46B3-8863-9D74041B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685D2-74D9-4D15-820A-8548216D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FF55F3-AD3D-4795-9053-C04260F9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67766-FB2F-4A8F-9CAA-AA643216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A97AA-877A-4188-A884-5ABE4433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3B8B6D-C1FF-44F3-A95E-0FC3D99B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305501-4854-4945-8805-2CEE38BD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51DC-34A7-40BE-B154-E73CE7F3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5B9F9-1BD9-453E-9254-D9DEBD37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CCA01-2A26-4E17-A4D0-2F7F0C28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F7D16-F90C-49F9-ADB7-C9B56CB5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2628-9AA5-4D2B-BCA9-97E59D34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4256-EA29-4E74-9F9D-4670693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2CDD-F865-4B92-A848-4671EBED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FC70-9EEC-4592-9433-D276C612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A7A-6381-4BD6-A769-B45C1C44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DABE-6062-44AA-B7E4-DB8F855A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F85A-76DD-4E5A-AC83-2AFCF121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D721-1A80-4F99-850A-9700B233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52EC-5134-42C0-BD87-352B38E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0B5B-F2D9-43AF-B850-96E6D729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DBD9-3289-41F9-81EF-761EDFCF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2F82-688C-49BE-B907-E8F18631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3E47-9D5B-487E-8F6B-B1B94261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CD9C-720E-4F63-B3F9-AAE17C5F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7FFE-22C3-46B6-94F1-97198254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773-C68E-4125-BCA1-AC28CF75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3CF16-80CD-46AA-8A0C-0F6AFFC1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D873-FFD3-4B43-96A1-16FA9468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4CC2-F710-4F8E-8A51-BE1E85D9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8FCF-4E73-4A79-8A28-7E6BE41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7D57-2DEE-495F-A7E6-A3D57712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B31B5-2784-4EF6-9C5A-C3284105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3E8A-8DE9-416F-8754-DF41FD0B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7864F-22B7-48A2-81EF-F5971777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E6E50-E52C-4162-9E93-3AA52DA0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5EB91-060B-4F4D-BC1C-3B4E4B89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E8B-EDFC-4CC1-97D4-BF2348A1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0108C-ECFA-4363-8B1A-2731AA42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49F5D-9DAC-4333-8916-B5B409C7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F237-D265-476B-8F28-5A284F05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6DDC2-13C3-4ABF-9EDD-580B1922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E0016-04E0-4E66-AC75-BF21598F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5F4C-2410-4AD7-99B1-69625108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A076F-D45F-4AC5-89B8-F04B7128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88AA-9E38-4B60-9725-4396A76E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64E6-3B8F-4FAC-A401-19B5F285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1ACB6-091E-4C1F-B87C-97632DE0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E9D-C9DF-46FA-A35A-1ED041A0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224B9-38F9-489D-9B21-2600A4C3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98C98-A657-4EAD-AEA5-CD11FF67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44971-6803-48BF-8395-EA6A32DE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647A5-25BC-4EE8-BDF9-4AEF956A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52B3-4BA1-43D4-9DD7-6F7CDDC6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650AF-9E70-43B5-8620-211F3F51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E8388-8BF6-4207-9923-87856117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18E28-BB86-4069-8287-6FFE1AD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E4497-5D5F-447D-8D99-CD475FE7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7C5AC-B96A-4410-954D-9920BF1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44C-9FF1-464D-807B-1B8D5D5A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E785-AED7-4533-B28A-8D9BD133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CD6A6-BDD0-4943-97FC-D51F5B8A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19310-5637-49EF-9940-D2F01E51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2B174-4F48-4DE2-BC96-4B61FFB7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3B01C-A5E0-4AE9-AAD1-B511B4F3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08554-2EC4-4DE5-A647-C9609389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B2B0-7C5A-44AE-88FD-E42E2147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4D6AC-43EA-402F-AC37-C81E3354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D6365-3769-4515-99EC-99685343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044A2-FF30-4BCA-9D54-DB2781DE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554-6D78-40F2-9541-9807C92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34C0-A566-4FC9-80B2-96998825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E5DFF-A8AC-405B-B18A-AEFC8A24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B9C2A-63E7-42E0-93EC-EF5AAAF9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82B6-89AC-406F-AC01-3959A46A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AEF9-1CC6-4489-9896-16768E4F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3BD4-68F4-42C3-BFE6-2D943B98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B8CC-423A-464E-9F33-BC9087BB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FA052-E315-49ED-AFB2-FA18A142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52B50-DB64-4E9F-84D4-5B42D0A1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4CCB9-7060-4886-92AA-69272850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ABA-FEA0-416C-B1DB-2FA9C24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2AD64-A8DF-49CA-B798-70237E6B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E4F3B-55CF-47C0-A155-6D091E3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B580B-651F-4562-A5A2-D1B662C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09E59-B1CD-4E37-B864-89F8C14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8CF26-8650-4489-8A61-D44DC0BF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EB9B9-51A0-4826-A46D-9B054C9A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34B23-F90D-42ED-BA43-B55B0BC5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AB4B9-3AF6-4CB6-8B62-C314B152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7D5A4-D6AB-4C5E-BAD5-6DAC6442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2E3ED-FE25-431D-AE8C-67BD0F2C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8A7-4B65-4D5D-95F1-CA6A79306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ADB1-08EF-4026-801C-289D2DCDF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DE84-F9EF-4AA0-A4AB-35586FA8D0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48EB-3A97-45C9-8EDE-153C6ED5C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D240-A2F5-4177-AF3A-C452163D59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302C-E486-4780-8553-8D208AACA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C502-8756-4226-843E-BDB2024286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7ADB-7B6C-45ED-958A-1E9C5C6995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3333-CF2C-4ADF-844A-C8A86DF90A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421-26BA-4415-B781-D81A3B37EF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5E58-FA11-4B10-9EF0-FE709BEEE2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CFAC-2A06-4F69-BB08-2BAC99C5EE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E130-A9E3-44F4-B2FE-81A06B9808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CC95-EE63-4B4A-A68B-6EE6EBE91A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6BED-876B-4D91-AD63-FA8D87DFF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8517-5096-459A-91D6-9FB010B3E0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8CD1-112C-46DE-8FC6-1B257432C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1F37-BC5C-4C2B-BC5B-8BA978CCF2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2FCB-F3C3-475A-B966-F3B1099F1A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1222-EF97-4777-A5C9-87ACA848D4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6F42-A756-4C3B-861A-CAB947B3E2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0D8B-DC0B-4655-BA51-4850562FA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9E7-95B8-4AEE-8F2A-A30E0E0B8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F198-F2B3-4679-9AFC-E32390993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7F6A-CDCC-4CCD-AC5A-2AE7FD5025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492A-DBD3-4B00-96C7-2CF35F11CE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E411-D0E1-443D-B9CE-D7ED0F7468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B5E-4FD1-4EA0-ACB5-8B8B3ED0E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8793-88F5-4C5C-B8A1-10504C17B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34FD-AB71-429D-A814-2ABDCBD13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A8E-6175-4CB0-BCEB-8F4D171C6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FCEA-9164-4550-84D6-CD540B708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7098-4136-45A7-BD53-A8A94000A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808-429D-4A58-A7FC-A49D194E42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5977-A724-42BB-A823-C4501775FF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81CD-271B-4C62-A867-C7A5C16408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10A7-93DF-4DCA-B307-1BD9CDA20F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4BAB-9B58-4358-A335-43A06175E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525-6A88-43FF-9981-D4204CB196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5693-4290-4FC6-84AC-2EF4476C7F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94000" y="2419200"/>
            <a:ext cx="5970600" cy="5526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086280" y="3444840"/>
            <a:ext cx="29718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9" name="组合 4101"/>
          <p:cNvGrpSpPr/>
          <p:nvPr/>
        </p:nvGrpSpPr>
        <p:grpSpPr>
          <a:xfrm>
            <a:off x="252360" y="1566720"/>
            <a:ext cx="8637480" cy="3724560"/>
            <a:chOff x="252360" y="1566720"/>
            <a:chExt cx="8637480" cy="3724560"/>
          </a:xfrm>
        </p:grpSpPr>
        <p:pic>
          <p:nvPicPr>
            <p:cNvPr id="1030" name="图片 1" descr=""/>
            <p:cNvPicPr/>
            <p:nvPr/>
          </p:nvPicPr>
          <p:blipFill>
            <a:blip r:embed="rId2"/>
            <a:stretch/>
          </p:blipFill>
          <p:spPr>
            <a:xfrm>
              <a:off x="252360" y="1566720"/>
              <a:ext cx="8637480" cy="372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1" descr=""/>
            <p:cNvPicPr/>
            <p:nvPr/>
          </p:nvPicPr>
          <p:blipFill>
            <a:blip r:embed="rId3"/>
            <a:stretch/>
          </p:blipFill>
          <p:spPr>
            <a:xfrm>
              <a:off x="1763640" y="2997360"/>
              <a:ext cx="6840720" cy="15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2" name="直接连接符 4102"/>
          <p:cNvSpPr/>
          <p:nvPr/>
        </p:nvSpPr>
        <p:spPr>
          <a:xfrm>
            <a:off x="1835280" y="3011400"/>
            <a:ext cx="1441440" cy="1641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3"/>
          <p:cNvSpPr/>
          <p:nvPr/>
        </p:nvSpPr>
        <p:spPr>
          <a:xfrm flipH="1">
            <a:off x="2050560" y="3011400"/>
            <a:ext cx="1297080" cy="1641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4104"/>
          <p:cNvSpPr/>
          <p:nvPr/>
        </p:nvSpPr>
        <p:spPr>
          <a:xfrm>
            <a:off x="5148360" y="2982960"/>
            <a:ext cx="1441440" cy="1641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4105"/>
          <p:cNvSpPr/>
          <p:nvPr/>
        </p:nvSpPr>
        <p:spPr>
          <a:xfrm>
            <a:off x="6732720" y="2967120"/>
            <a:ext cx="1441440" cy="16412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4106"/>
          <p:cNvSpPr/>
          <p:nvPr/>
        </p:nvSpPr>
        <p:spPr>
          <a:xfrm flipH="1">
            <a:off x="5292720" y="2982960"/>
            <a:ext cx="3130560" cy="16700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71280" y="1433520"/>
            <a:ext cx="8999640" cy="3990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042920" y="35146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087560" y="422100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042920" y="48830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14480" y="1719360"/>
            <a:ext cx="8915400" cy="341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609912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772632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451476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6156360" y="39196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6"/>
          <a:stretch/>
        </p:blipFill>
        <p:spPr>
          <a:xfrm>
            <a:off x="6099120" y="458136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528480" y="901800"/>
            <a:ext cx="8085240" cy="549576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7171" descr=""/>
          <p:cNvPicPr/>
          <p:nvPr/>
        </p:nvPicPr>
        <p:blipFill>
          <a:blip r:embed="rId2"/>
          <a:stretch/>
        </p:blipFill>
        <p:spPr>
          <a:xfrm>
            <a:off x="2268360" y="1622520"/>
            <a:ext cx="60357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19:3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